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A656-A3A3-4319-95A3-4D74A40960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he Internal Assessment Portfolio provides  students the opportunity to demonstrate understanding when they explain a topic, find evidence, generalize a problem, apply concepts and theories, and present their own perspective of a particular sit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3AC-3B42-416C-8DA9-FB5A0B807F4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CD4-099B-466B-A955-37A38118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7A5-1E29-471E-8A0E-DD2738EA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A81C1-0057-4B9A-9BD0-FA2296AF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960E-E5A9-4CC1-9A95-8189FCA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696AB-B53D-484F-84D0-4614BA0D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EF002-5105-4AE4-935A-B08B3CE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B43AC-B373-466B-B58D-017185C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D60F8-0A35-42E6-A636-436B4481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0F407-0AE2-4047-A200-1954EED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16B9-505E-4215-A63F-802D9A17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A648D-A33E-4041-83DA-E558C71F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79C-25CC-46DE-B80E-CEEEEE33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6E0-4A8A-4096-A010-85BE7AD9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2079-827E-4F66-B579-C320661D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6489-850B-4EE1-823B-AF6C43F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923-C6D6-4135-BAA9-797471AF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F929-0E88-485E-BEE2-54F9F03A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C019-EFD0-4B4C-9A53-B3143A0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48D6-EDD8-4E7F-8E8B-67D7C2A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A902-7B9D-4F2E-9DC9-2BD9C94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3CA-B88C-471A-A47A-C26BFFEE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5799-6190-46CE-9CCD-36A768E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DB1A-43F1-4A33-BC33-64EE56A8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1F48-9926-48D4-87C2-542FCB2E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8060-E7A7-4B0E-9527-0A56A672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9193-B2F7-45E0-9308-5FBDBF47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CDE50-85CB-4F86-B993-182B456F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4D38-F7AF-4C59-970A-CC7B7B0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0114-E918-4C5A-A0D8-36074F9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8C8F-096C-4B73-A7EF-9454B324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6424-3AFD-4758-AAA1-724D7BD5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50F-73F0-4FC4-89F7-1B488BCD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EE4B-CA3E-425F-8C13-E1B8B1B0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8835-E559-466F-B28C-3BD1923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0732-12BE-4592-B228-2FB5A66E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7E1A3-A2D4-4E7E-BC97-4B4AAB9A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3745-E569-4B49-996B-450D0E83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CD2C-0F3A-49E4-8997-F39EE2BC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DB1D-0DDC-4D4F-9F5D-B3E56ACA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7AA9-A79C-4DBD-9D58-E99950D9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4EEA-B986-4D62-ADE5-C83047C9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A39B-3831-4CB4-A049-68782030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BD0-9831-4ADD-8393-88095A5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DB57-AE6B-494F-A8A5-A91BE36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03FA-BBF1-4BC4-9697-58F356AC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3E57F-D9EE-4BC1-97C6-C17DEA88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4AB9-9E49-406D-94B5-C6B0689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B4AD-72C2-4568-A8E2-A38FF71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8AF7-5A39-4D46-8CB2-D16AD1B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B219-A8B1-4991-B786-DA177C6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A256-F35B-4519-8255-9F2E7A7B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9B4A-0922-4D03-B51F-A9B1B884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54A2-0137-46FF-B14D-5E83BF7E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A9E-972B-4F29-9410-E5CCDE70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3EC8C-ECAF-4CBE-9BC4-66A4DDB3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990D-A46D-4C38-91D3-95841E18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BBCE-596B-4BDE-BEA6-2B1F1CE0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D2FCC-E0CB-4DDC-9DBE-963E43E4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0658-5490-4B86-92C3-CA108CCA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6995-A2B6-4914-9744-D7CF3D38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7F8FF-0FD1-4508-B04D-C857432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7963A-3A2C-47D3-9016-279E328E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02115-C1D5-4806-BBEE-60776045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72915-0C01-460D-B560-01B920C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2C3-B687-4B17-A5CE-88F190FD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2554-5AA2-4740-99C1-639C14B5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9310D-CD24-4F8F-944F-1E054C71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61532-67F7-4A8A-9DCB-6C7623E8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0CE4-C659-4AAE-9717-E829575C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612E-1A33-40D4-9EAD-191CD03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D2FB5-EBA6-4523-A247-21EF3283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15A49-A195-46AA-860A-85D39116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2672-DBC0-442B-A028-C942670F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2670-1871-4871-A1E1-E7165FC8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B5F10-864B-4DED-9037-D54F3743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971-23DF-454C-9B17-BDCE722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9C0FB-FCAE-4926-8E49-43E70CCF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928BB-6A55-4809-930F-5D16FD3D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9919A-A299-4566-8886-1B0A087C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11242-679B-46AB-91C3-1E144694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C9283-AD2A-4EF4-BA5D-E948B395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598AA-6A77-47F0-94CB-F67EFAC2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BD469-E985-43FE-8142-580D7F95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9D914-ABFE-4D9B-AF92-C3CFCA8B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AD5A4-F981-448D-AC14-A248428A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9ECE-A538-43F9-99A0-D00AA22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74B-A273-4012-92BB-7C76D35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CC46-A26A-4208-90BD-CCDEC6E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695D9-B8DD-4CBB-A53C-E0DA0C70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AAD68-9B7C-4ACF-BA36-9ED0FBC7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EFFD7-176F-4084-AFD6-ED2728BB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7CEA0-22F0-4CF0-9A61-06D18993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6476C-EF16-4807-8679-E8315B97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02329-6FD9-4A6D-82F3-76AB5F63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1EB5B-1174-4DE3-9034-14D1B05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24D59-8D23-40C2-A343-459E3A97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539A0-6F50-44E7-AD05-60317BA3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421-F9E6-4F8A-9908-3B1C4193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FE18C-42C6-4739-BC07-B003561D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3CC92-D4B0-4AA4-BA2E-68E5369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C8F5-FD4C-4191-87CD-AEC858A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E39B4-ED6C-46BD-8C6A-DBC6EA5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A1FB0-E0E2-4FB6-98DF-6C5FCF7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B546C-58AE-4561-A179-877F67F6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C8FD-A90D-4489-9EA1-24300A44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08F3-A0B5-4BA8-B50C-1A580C06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9827D-E9D0-4500-ADBD-F34FD847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4BDBD-9ED0-440E-9C4B-E308C0AC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513-0E4B-477C-98B0-F133E46D64C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279-F0BB-459D-BA48-57B35FF6FAE0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4F2-D170-4E41-AC76-AE952CFF12E2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6B58-0BE5-4A88-AA56-68950315DD9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69EF-E59C-4DBB-81E1-D64F45D733C5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1863-89B7-494D-9092-4171F6F48592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411C-852F-480B-841E-44953A2E6C9C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CF45-8FB4-46BD-BC07-7283935BB785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CB9-6E82-4FDB-987A-B192ACF8A43A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youtube.com/watch?v=Lid47BS65bE&amp;feature=related" TargetMode="External"/><Relationship Id="rId3" Type="http://schemas.openxmlformats.org/officeDocument/2006/relationships/hyperlink" Target="http://www.youtube.com/watch?v=wwGPKm2VZEI&amp;NR=1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1 Título" descr=""/>
          <p:cNvPicPr/>
          <p:nvPr/>
        </p:nvPicPr>
        <p:blipFill>
          <a:blip r:embed="rId1"/>
          <a:stretch/>
        </p:blipFill>
        <p:spPr>
          <a:xfrm>
            <a:off x="353880" y="1206360"/>
            <a:ext cx="84661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1670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There are six skill levels in Bloom’s taxonomy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Knowledg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Comprehens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Applic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Analysi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Synthesi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Evalu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Franklin Gothic Book"/>
              </a:rPr>
              <a:t>All these skills can be shown in your portfolio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he links below to learn more about Bloom’s Taxonom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www.youtube.com/watch?v=Lid47BS65bE&amp;feature=relat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www.youtube.com/watch?v=wwGPKm2VZEI&amp;NR=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1309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C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requires you to use appropriate economic terminology in your commentar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This requires that you provide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orrect definitions of economic terminology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(vocabulary) that is relevant to each commentar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You can define the terms within the text of the commentary or as footnotes throughou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-23760" y="-128520"/>
            <a:ext cx="9191520" cy="16891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>
            <a:off x="0" y="14288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erion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you to use diagrams effectively in your commenta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way to illustrate your understanding of important knowledge from the article, your comprehension of it in other words, i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 diagrams from appropriate models to explain your id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-23760" y="-79200"/>
            <a:ext cx="9191520" cy="1688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D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requires you to apply economic theories and concepts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ow do you do th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dentify new examples related to the ideas in your commentar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Use formulas from appropriate models to clarify idea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Use facts from the article to expand explanation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1359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D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also requires you to analyze economic theories and concept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ow do you do th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Identify cause and effect by explaining changes using appropriate diagram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Use facts from the article and examples from class to compare and contrast the content of your article with other real world situation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-23760" y="-79200"/>
            <a:ext cx="9191520" cy="1688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D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ou can also satisfy this criterion by linking theory and eviden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ow do you do th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dentify an actual event from the article that you have discussed in your commentary and compare/contrast the outcome to the outcome predicted by economic theor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mmarize your ideas and connect them in a conclusio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-23760" y="-79200"/>
            <a:ext cx="9191520" cy="1688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riterion D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ou can also satisfy this criterion by making judgments and prediction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ow do you do th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dentify a potential outcome that you would anticipate related to the article and explain how economic theory supports your predictio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valuate the effects of the events in your article on different stakeholders and the advantages and disadvantages of policies discuss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estion the validity of theory discussed in the article and prioritize your own argument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7:09:55Z</dcterms:created>
  <dc:creator>usuario</dc:creator>
  <dc:description/>
  <dc:language>en-US</dc:language>
  <cp:lastModifiedBy>p.hopkins_daa</cp:lastModifiedBy>
  <dcterms:modified xsi:type="dcterms:W3CDTF">2011-02-26T09:38:38Z</dcterms:modified>
  <cp:revision>64</cp:revision>
  <dc:subject/>
  <dc:title>Module II: Overview of the Internal Assessment Requirements</dc:title>
</cp:coreProperties>
</file>